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024-CF68-4B4B-9B14-9A671123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7F2-32B7-41EF-B5E8-FBA5BF4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B38-FD1C-4726-8879-DC5C38FC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809-35EB-45C5-89FE-D4F0ED9D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D26-4F04-46CA-B0D5-2E4752B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88F-CA19-4F9B-8D4B-7263DD2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2E5-EBEC-444D-8AF2-8754EF3B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F31-F0A9-4143-BCD3-8A929225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103-51C7-41A7-B513-1F69288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86A-277D-4261-B8DB-85ECEF4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BB5-4161-45A0-B6FF-7EC8267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961-E2AE-42DB-A819-26C1D82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4380-2963-4DC2-8112-95F8BF30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racle.com/technetwork/database/express-edition/downloads/index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are server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LARGE ORACLE logo.png"/>
          <p:cNvPicPr/>
          <p:nvPr/>
        </p:nvPicPr>
        <p:blipFill>
          <a:blip r:embed="rId1"/>
          <a:stretch/>
        </p:blipFill>
        <p:spPr>
          <a:xfrm>
            <a:off x="2438280" y="152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ul se afla la ad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acle.com/technetwork/database/express-edition/downloads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-ul catr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55640" y="1352520"/>
            <a:ext cx="5811840" cy="520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4267080" y="4267080"/>
            <a:ext cx="1905120" cy="53352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a instalare, va logati cu contul s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495680" cy="41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0800000">
            <a:off x="6248160" y="5181480"/>
            <a:ext cx="1904760" cy="53352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inuare alegt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96200" cy="31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5486400"/>
            <a:ext cx="609480" cy="1143000"/>
          </a:xfrm>
          <a:prstGeom prst="upArrow">
            <a:avLst>
              <a:gd name="adj1" fmla="val 50000"/>
              <a:gd name="adj2" fmla="val 46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1482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229600" cy="265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3634920" y="3081240"/>
            <a:ext cx="1752840" cy="5335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235000">
            <a:off x="6781320" y="3505320"/>
            <a:ext cx="1295640" cy="53316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06:25Z</dcterms:created>
  <dc:creator>tomsa.gelu</dc:creator>
  <dc:description/>
  <dc:language>en-US</dc:language>
  <cp:lastModifiedBy>tomsa.gelu</cp:lastModifiedBy>
  <dcterms:modified xsi:type="dcterms:W3CDTF">2011-10-26T08:01:29Z</dcterms:modified>
  <cp:revision>3</cp:revision>
  <dc:subject/>
  <dc:title>Instalare server Oracle</dc:title>
</cp:coreProperties>
</file>